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473-3E18-46BC-89AA-6BB6E2AC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DC6-AF37-4996-A4DA-A4CCC374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22F-59D9-408E-AD6B-7530DEE1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7D3-185E-4F33-A850-68C6FB0D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FAA-7962-4860-BF0B-B2A30A66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FC2-9BF1-4AE0-ADFD-48082257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C1A-8872-460C-9A46-744179BC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003-9C77-4643-933B-BA801746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6A8-8BBC-43E8-9F5B-6C1D2CE3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BDA-6440-4BAF-8370-C74CDC8D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EDE-FD17-4653-B56E-B9648619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1A2-65BA-4080-BE74-4192604E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F0B6-CD78-41F6-BA04-99CEE3E51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5 Pán Ježiš je mi drah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mi drah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o vzácnejš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jeho verná láska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oklad najväčš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neho nechcem ďalej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lúdiť svetom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 živote mi všetk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sť môžu skúšky ťažk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nie som bezrad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roti všetkým nástrah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j zviedol víťaz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preto s ním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jeho rady dbá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 živote mi všetk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bremä žitia ťaž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radosť veľk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 všetkým sa mu zveruj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naň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 čas, dary, schop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lužieb jemu dá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je v živote mi všetk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ilovať ma učí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príklad svoj nám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neba slávy vz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k sebe volá hriešnik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veta strán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je v živote mi všetk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drahý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2:09:57Z</dcterms:modified>
  <cp:revision>22</cp:revision>
  <dc:subject/>
  <dc:title>Je veľký náš Pán, on slávy je Kráľ Nech do všetkých strán  spev vrúcnych znie chvál.</dc:title>
</cp:coreProperties>
</file>